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407340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407340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C8991A0E-738E-4DEF-BEA5-A91B9C3B00E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954880" y="9045720"/>
            <a:ext cx="1278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9226D43-AEF3-4660-9BAC-E1FA0403AD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227240" y="717120"/>
            <a:ext cx="4735440" cy="355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960" bIns="489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E84DB97D-E013-4F2D-B47E-32537F3D2B2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CFBCD4C-AA9D-4F3E-95C3-FC9A1240768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B0F5320-1053-4896-8F40-FD8D22C507D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B9E43425-2C08-48A1-BC4B-BFE372CEF31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38F4251-2BAC-467C-8DAC-5D675B1DB65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BE9AFFA-0C81-4FC7-BBF9-D1D0066F4CC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07C65DC-A11A-4AA2-9251-A67E62C23D5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8223F0C-BC05-40D9-ABCD-9932E190FE7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BA72A958-4417-4294-8AE7-A2AC61E6D3C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DA0589F7-91B5-49FC-ADFA-B0D682787F9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B41B5DE-EB8E-4FF8-B25B-D7FBCBC377E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0736937F-CDBB-4D7B-88E4-CD4117B2960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39840" y="727200"/>
            <a:ext cx="4708440" cy="35319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89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8990230-A4CC-495C-A62B-6F325D2833F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E39006B-B76A-4518-AA93-8FCB5B383ED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6C9BD69-5E35-4F4B-9546-A388A03C5C3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5968ACD-7C54-4A4E-BC8C-6CBC3889D13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08B6FFFB-A87E-46ED-9606-FF2D19634DE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8AB8C1F-EC09-478C-B726-5F9EDB106BA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3B87487-54F5-4F32-9E27-2EDD9E9B123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39840" y="727200"/>
            <a:ext cx="4708440" cy="35319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89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47CE64D-2B6C-4660-A563-A2C69FADFF1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39840" y="727200"/>
            <a:ext cx="4708440" cy="35319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89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B44C359-A41A-46E1-997A-23C628A5A4B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39840" y="727200"/>
            <a:ext cx="4708440" cy="35319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89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1ACA7D2-0B20-4B6A-8755-2F6D111D0DF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39840" y="727200"/>
            <a:ext cx="4708440" cy="35319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890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2CF2E6D-F354-4064-A7AC-82417558216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9C1F5B3-C2AE-47AC-8721-FDFD4280325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1946439-ED7B-45AB-82B1-60E80FF0BC1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A63E4C4-77E9-4D77-B106-F5D09627C00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11A88D5-3EE2-48A4-93E9-B69EFF8FE9D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038320" y="622440"/>
            <a:ext cx="2889360" cy="2166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40B62212-E409-4E32-A457-30766402D152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B8F509BC-FE84-4652-BA57-097268810E05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2117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18800" y="888480"/>
            <a:ext cx="812484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: Using PSP0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 Time Recording Log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13960" y="1450800"/>
            <a:ext cx="76899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p:  Enter the time in minutes when you stop work on a project phase, even if you are not done with that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ruption time:  Enter any time that you lost due to interruptions in the start to stop peri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ta time:  Enter the elapsed time less the interruption time (start to stop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 Time Recording Log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07840" y="1447920"/>
            <a:ext cx="78022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e phase on which you were work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phase na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ents:  descri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interru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ask you were do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thing else that significantly affects you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Recording Log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13960" y="1450800"/>
            <a:ext cx="3846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:  Table C18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659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er:  Enter the name, date, instructor, and program numb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e:  Enter the date when you found and fixed the def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ber:  Enter a unique number for this defect.  Start each project with 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Object 7"/>
          <p:cNvGraphicFramePr/>
          <p:nvPr/>
        </p:nvGraphicFramePr>
        <p:xfrm>
          <a:off x="5038560" y="1479600"/>
          <a:ext cx="314172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8560" y="1479600"/>
                    <a:ext cx="3141720" cy="406404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Recording Log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e:  Enter the defect type from the defect type standar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:  Enter the phase during which you judge the defect was injec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:  Enter the phase in which you found and fixed the def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90200" y="4586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Recording Log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07840" y="1447920"/>
            <a:ext cx="76863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x time:  Enter the time that you took to both find and fix the defect.  You may time it exactly, or use your best judg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x defect:  If this defect was injected while fixing another defect, enter the number of that defect (or an X if you do not know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ption:  Enter explanation of what the defect was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t the symptom, but the defect!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:  A defect is anything in the program that must be changed for it to be properly developed, enhanced, or u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Type Standard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01720" y="1450800"/>
            <a:ext cx="76010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: Table 20, page 66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fect type standard provides a general set of defect categor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le you may replace this standard with your own, it is generally wise to stick with simple type definitions until you have data to guide your chang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838080" y="556272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87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0200" y="4586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Type Standard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defect type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 - Docu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- Synta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 - Build, pack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 - Assig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 - Inte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 - Chec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 -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0 - Fun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0 -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 - Enviro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90200" y="4586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 Plan Summary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1360" y="1463400"/>
            <a:ext cx="34527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:  Table C14, page 65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er:  Enter name, date, program, instructor, and langua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your best estimate of the total time that the development will ta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the actual time in minutes that you spent in each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Object 5"/>
          <p:cNvGraphicFramePr/>
          <p:nvPr/>
        </p:nvGraphicFramePr>
        <p:xfrm>
          <a:off x="4508640" y="1522440"/>
          <a:ext cx="4368600" cy="40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522440"/>
                    <a:ext cx="4368600" cy="406728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 Plan Summary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01720" y="1450800"/>
            <a:ext cx="77407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to date:  Enter the total time spent in each phase to date.  For program 1A, this is the time spent on program 1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to date %:  Enter the percent of the tota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 d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ime that was spent in each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injected and removed:  Enter the actual numbers of defects injected and removed in each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 Plan Summary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01720" y="14634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to date:  Enter the total defects injected and removed in each phase to date.  For program 1A, this is the defects injected and removed with program 1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to date %:  Enter the percent of the tota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 d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efects injected and removed in each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Process Scrip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01360" y="1450800"/>
            <a:ext cx="75754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scripts guide you through the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286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entry criteria before starting a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286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rd the phase start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286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form the phase steps and instr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286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rd defects as they are found and corr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286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exit criteria before ending a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286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rd the phase e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286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the next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ce yourself to use this paradigm until it becomes a hab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Form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14320" y="1450800"/>
            <a:ext cx="76644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ructions and examples for each form are in Appendix 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ssignment package also includes instruc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eld descriptions are printed on the inside front and back covers of the text bo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forms while you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em organized to save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7238880" y="144792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la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238880" y="220968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Desig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7238880" y="297180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d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7238880" y="373392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mpil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7238880" y="449568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Test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010280" y="5257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ostmortem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cess Flow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01360" y="1514160"/>
            <a:ext cx="601812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4000"/>
          </a:bodyPr>
          <a:p>
            <a:pPr>
              <a:lnSpc>
                <a:spcPct val="85000"/>
              </a:lnSpc>
              <a:spcAft>
                <a:spcPts val="337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SP is a sequential proc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16080" indent="-195480">
              <a:lnSpc>
                <a:spcPct val="85000"/>
              </a:lnSpc>
              <a:spcAft>
                <a:spcPts val="337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s are executed in sequen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16080" indent="-195480">
              <a:lnSpc>
                <a:spcPct val="85000"/>
              </a:lnSpc>
              <a:spcAft>
                <a:spcPts val="337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ow is in one direc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16080" indent="-195480">
              <a:lnSpc>
                <a:spcPct val="85000"/>
              </a:lnSpc>
              <a:spcAft>
                <a:spcPts val="337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it criteria control transition to the next phas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16080" indent="-195480">
              <a:lnSpc>
                <a:spcPct val="85000"/>
              </a:lnSpc>
              <a:spcAft>
                <a:spcPts val="337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no transition back to a completed phas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Examp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 finds a major logic error in his program during test. He has to redesign and code part of his program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: What PSP phase is Tom executing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: Te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 finds a defect in the new code he has written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: In what PSP phase was the defect injected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: Te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7696080" y="190980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4" name="Line 11"/>
          <p:cNvSpPr/>
          <p:nvPr/>
        </p:nvSpPr>
        <p:spPr>
          <a:xfrm>
            <a:off x="7696080" y="267192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5" name="Line 12"/>
          <p:cNvSpPr/>
          <p:nvPr/>
        </p:nvSpPr>
        <p:spPr>
          <a:xfrm>
            <a:off x="7696080" y="3433680"/>
            <a:ext cx="0" cy="300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Line 13"/>
          <p:cNvSpPr/>
          <p:nvPr/>
        </p:nvSpPr>
        <p:spPr>
          <a:xfrm>
            <a:off x="7696080" y="419580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7" name="Line 14"/>
          <p:cNvSpPr/>
          <p:nvPr/>
        </p:nvSpPr>
        <p:spPr>
          <a:xfrm>
            <a:off x="7696080" y="495792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917640" y="3467160"/>
            <a:ext cx="54831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5829480" y="182880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la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5715000" y="2590920"/>
            <a:ext cx="11430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Desig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s A+B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829480" y="335268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d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A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5829480" y="411480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mpil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A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5829480" y="487692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Test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A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934320" y="59436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ostmortem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cremental Development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88760" y="1501560"/>
            <a:ext cx="452412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85000"/>
              </a:lnSpc>
              <a:spcAft>
                <a:spcPts val="561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SP can be adapted to support incremental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88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ide the program into parts during planning or desig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88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parately develop each part using the remaining PSP phas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88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duct one postmortem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ocess flow diagram illustrates one example for a program with two parts, A and B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to support cyclic development are introduced in PSP3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6286680" y="2290680"/>
            <a:ext cx="0" cy="300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Line 11"/>
          <p:cNvSpPr/>
          <p:nvPr/>
        </p:nvSpPr>
        <p:spPr>
          <a:xfrm>
            <a:off x="6286680" y="305280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Line 12"/>
          <p:cNvSpPr/>
          <p:nvPr/>
        </p:nvSpPr>
        <p:spPr>
          <a:xfrm>
            <a:off x="6286680" y="381492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Line 13"/>
          <p:cNvSpPr/>
          <p:nvPr/>
        </p:nvSpPr>
        <p:spPr>
          <a:xfrm>
            <a:off x="6286680" y="4576680"/>
            <a:ext cx="0" cy="300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Rectangle 14"/>
          <p:cNvSpPr/>
          <p:nvPr/>
        </p:nvSpPr>
        <p:spPr>
          <a:xfrm>
            <a:off x="7238880" y="358128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d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B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7238880" y="434340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mpil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B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Rectangle 16"/>
          <p:cNvSpPr/>
          <p:nvPr/>
        </p:nvSpPr>
        <p:spPr>
          <a:xfrm>
            <a:off x="7162920" y="5105520"/>
            <a:ext cx="1066680" cy="49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Test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s A+B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Line 17"/>
          <p:cNvSpPr/>
          <p:nvPr/>
        </p:nvSpPr>
        <p:spPr>
          <a:xfrm>
            <a:off x="7696080" y="4041720"/>
            <a:ext cx="0" cy="300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Line 18"/>
          <p:cNvSpPr/>
          <p:nvPr/>
        </p:nvSpPr>
        <p:spPr>
          <a:xfrm>
            <a:off x="7696080" y="480384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6" name="Freeform 19"/>
          <p:cNvSpPr/>
          <p:nvPr/>
        </p:nvSpPr>
        <p:spPr>
          <a:xfrm>
            <a:off x="6248520" y="3352680"/>
            <a:ext cx="1449360" cy="2211480"/>
          </a:xfrm>
          <a:custGeom>
            <a:avLst/>
            <a:gdLst/>
            <a:ahLst/>
            <a:rect l="l" t="t" r="r" b="b"/>
            <a:pathLst>
              <a:path w="913" h="1393">
                <a:moveTo>
                  <a:pt x="0" y="1248"/>
                </a:moveTo>
                <a:lnTo>
                  <a:pt x="0" y="1392"/>
                </a:lnTo>
                <a:lnTo>
                  <a:pt x="432" y="1392"/>
                </a:lnTo>
                <a:lnTo>
                  <a:pt x="432" y="0"/>
                </a:lnTo>
                <a:lnTo>
                  <a:pt x="912" y="0"/>
                </a:lnTo>
                <a:lnTo>
                  <a:pt x="912" y="144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Line 20"/>
          <p:cNvSpPr/>
          <p:nvPr/>
        </p:nvSpPr>
        <p:spPr>
          <a:xfrm>
            <a:off x="7696080" y="5591160"/>
            <a:ext cx="0" cy="352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5829480" y="182880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la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5715000" y="2590920"/>
            <a:ext cx="11430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Desig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s A+B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5829480" y="335268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d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A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5829480" y="411480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mpil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A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5829480" y="487692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Test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A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934320" y="58672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ostmortem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cremental Development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01720" y="1501560"/>
            <a:ext cx="45244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85000"/>
              </a:lnSpc>
              <a:spcAft>
                <a:spcPts val="561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ement conside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214560">
              <a:lnSpc>
                <a:spcPct val="85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e a program part identifier in the notes field on time log entri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214560">
              <a:lnSpc>
                <a:spcPct val="85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a similar annotation to defect log entri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214560">
              <a:lnSpc>
                <a:spcPct val="85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“Test” as the phase removed when defects are found in a previously tested par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Aft>
                <a:spcPts val="561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 finds and fixes an interface error in part A of his program while coding part B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: In what PSP phase was this defect removed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8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: Te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6286680" y="2290680"/>
            <a:ext cx="0" cy="300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6286680" y="305280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6286680" y="381492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6286680" y="4576680"/>
            <a:ext cx="0" cy="300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7238880" y="358128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d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B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7238880" y="4343400"/>
            <a:ext cx="914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Compil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 B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7162920" y="5105520"/>
            <a:ext cx="1066680" cy="495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Test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parts A+B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7696080" y="4041720"/>
            <a:ext cx="0" cy="300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4" name="Line 18"/>
          <p:cNvSpPr/>
          <p:nvPr/>
        </p:nvSpPr>
        <p:spPr>
          <a:xfrm>
            <a:off x="7696080" y="4803840"/>
            <a:ext cx="0" cy="299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5" name="Freeform 19"/>
          <p:cNvSpPr/>
          <p:nvPr/>
        </p:nvSpPr>
        <p:spPr>
          <a:xfrm>
            <a:off x="6248520" y="3352680"/>
            <a:ext cx="1449360" cy="2211480"/>
          </a:xfrm>
          <a:custGeom>
            <a:avLst/>
            <a:gdLst/>
            <a:ahLst/>
            <a:rect l="l" t="t" r="r" b="b"/>
            <a:pathLst>
              <a:path w="913" h="1393">
                <a:moveTo>
                  <a:pt x="0" y="1248"/>
                </a:moveTo>
                <a:lnTo>
                  <a:pt x="0" y="1392"/>
                </a:lnTo>
                <a:lnTo>
                  <a:pt x="432" y="1392"/>
                </a:lnTo>
                <a:lnTo>
                  <a:pt x="432" y="0"/>
                </a:lnTo>
                <a:lnTo>
                  <a:pt x="912" y="0"/>
                </a:lnTo>
                <a:lnTo>
                  <a:pt x="912" y="144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6" name="Line 20"/>
          <p:cNvSpPr/>
          <p:nvPr/>
        </p:nvSpPr>
        <p:spPr>
          <a:xfrm>
            <a:off x="7696080" y="5595840"/>
            <a:ext cx="0" cy="271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917640" y="4317840"/>
            <a:ext cx="418788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90200" y="4586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asuring Your Proces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ther and record data on your process as you work, not afterwards.  If you forget, promptly make your best gu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precise and accur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in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 every de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be using your own data to manage your process; gather data that is worthy of your tru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Fix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01720" y="14126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fix time is often misundersto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the time taken to both find and fix the def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:0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n compiler on p1a.c, “line 23 - type mismatch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:0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n editor on p1a.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: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declaration on line 6 from integer to re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:1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n compiler on p1a.c, “no errors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: What is the defect fix time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: 10 minu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905040" y="3301920"/>
            <a:ext cx="708336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 Instruc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14320" y="1450800"/>
            <a:ext cx="77407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 through the PSP0 process scripts (in the workbook) so that you understand the entry and exit criteria for each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 JD’s scenario for program 1A and, based on this scenario, fill out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 to the instructions for each form to determine what information goes in each fiel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01720" y="1450800"/>
            <a:ext cx="76644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using PSP0, your principal objective is to learn to gather and report accurate and complete data on your work.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ce you have completed this course, you will know how to adjust and extend the PSP to meet your future nee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til then, make your best effort to follow the PSP process scripts and instruc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4320" y="1450800"/>
            <a:ext cx="76392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PSP0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how to use PSP0 process scripts and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prepared to use PSP0 for assignment 1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 Objectiv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01360" y="1450800"/>
            <a:ext cx="7613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 of PSP0 is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monstrate the use of a defined process in writing small pro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rporate basic measurements in the software development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 minimal changes to personal pract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0 Process -1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0 is a simple, defined, personal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your current design and development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ther data on you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spent by ph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found in compile and t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 a summary repor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0 Proces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scrip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port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type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plan summary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0 Scrip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20800" y="1447920"/>
            <a:ext cx="77644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:  Table C10, page 65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ing:  Estimate the development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:  Develop the product using your current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mortem:  Complete the project plan summary with the time spent and defects found and injected in each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0 Scrip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:  Design the program using your current design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ing:  Implement the program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ile:  Compile until defect-fre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:  Test the program and fix all defect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rd defects in the defect log and time per phase in the time lo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 Time Recording Log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720" y="1450800"/>
            <a:ext cx="37958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:  Table C16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65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er:  Enter name, date, instructor, and program numb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e:  Enter the current d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:  Enter the time in minutes when you start a project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Object 12"/>
          <p:cNvGraphicFramePr/>
          <p:nvPr/>
        </p:nvGraphicFramePr>
        <p:xfrm>
          <a:off x="4889520" y="1574640"/>
          <a:ext cx="326376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9520" y="1574640"/>
                    <a:ext cx="3263760" cy="406404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07T19:03:54Z</cp:lastPrinted>
  <dcterms:modified xsi:type="dcterms:W3CDTF">2018-09-06T00:16:58Z</dcterms:modified>
  <cp:revision>65</cp:revision>
  <dc:subject/>
  <dc:title>No Slide Title</dc:title>
</cp:coreProperties>
</file>